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6F3E-BB5F-4E13-9D4E-FE2198A7A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D934-B37D-4E82-9D1A-F2F343469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EF7C-CF5E-4494-969C-A7D507D07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FA28-57E1-4023-AF94-C90FAF85F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9181-CF65-4057-9F4B-64705C133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CBF5-39FC-4373-87EE-CD68C0BEA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FB30-E43D-470A-BA00-B5BF350B2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A37B-2D90-4F58-915A-ECBA7D020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6877-897F-4475-B143-243107167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FD5D-0FF9-46A0-B630-B60B7630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F1A5-BBF3-46B9-A4F8-63CCD528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F81C-1DC0-4C7D-96FC-F29D8114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8A165-79F6-4F14-888A-F9097EC21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바탕"/>
              </a:rPr>
              <a:t>Por/Par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3738960" y="1468440"/>
            <a:ext cx="1425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바탕"/>
              </a:rPr>
              <a:t>-Time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바탕"/>
              </a:rPr>
              <a:t>-Person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바탕"/>
              </a:rPr>
              <a:t>-Place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2105640" y="1468440"/>
            <a:ext cx="15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바탕"/>
              </a:rPr>
              <a:t>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988520" y="1447920"/>
            <a:ext cx="310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바탕"/>
              </a:rPr>
              <a:t>Deadline, Due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43920" y="2209680"/>
            <a:ext cx="37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바탕"/>
              </a:rPr>
              <a:t>Instead of, On behalf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5244120" y="2209680"/>
            <a:ext cx="16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바탕"/>
              </a:rPr>
              <a:t>Recip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1264320" y="2895480"/>
            <a:ext cx="24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바탕"/>
              </a:rPr>
              <a:t>Along, 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5010120" y="28954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바탕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147960" y="3908520"/>
            <a:ext cx="1649880" cy="2562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바탕"/>
              </a:rPr>
              <a:t>-Rea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바탕"/>
              </a:rPr>
              <a:t>-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바탕"/>
              </a:rPr>
              <a:t>-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바탕"/>
              </a:rPr>
              <a:t>-$ Ex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바탕"/>
              </a:rPr>
              <a:t>-By mean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7073280" y="3886200"/>
            <a:ext cx="1630080" cy="1739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바탕"/>
              </a:rPr>
              <a:t>-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바탕"/>
              </a:rPr>
              <a:t>-In order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바탕"/>
              </a:rPr>
              <a:t>(infinitiv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바탕"/>
              </a:rPr>
              <a:t>-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4" descr="j0234324"/>
          <p:cNvPicPr/>
          <p:nvPr/>
        </p:nvPicPr>
        <p:blipFill>
          <a:blip r:embed="rId1"/>
          <a:stretch/>
        </p:blipFill>
        <p:spPr>
          <a:xfrm>
            <a:off x="2933640" y="3402000"/>
            <a:ext cx="3276720" cy="22366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6"/>
          <p:cNvSpPr/>
          <p:nvPr/>
        </p:nvSpPr>
        <p:spPr>
          <a:xfrm>
            <a:off x="1878840" y="5965920"/>
            <a:ext cx="65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바탕"/>
              </a:rPr>
              <a:t>Salimos ma</a:t>
            </a:r>
            <a:r>
              <a:rPr b="1" lang="en-US" sz="1800" spc="-1" strike="noStrike">
                <a:solidFill>
                  <a:srgbClr val="000000"/>
                </a:solidFill>
                <a:latin typeface="바탕"/>
                <a:ea typeface="바탕"/>
              </a:rPr>
              <a:t>ñ</a:t>
            </a:r>
            <a:r>
              <a:rPr b="1" lang="en-US" sz="1800" spc="-1" strike="noStrike">
                <a:solidFill>
                  <a:srgbClr val="000000"/>
                </a:solidFill>
                <a:latin typeface="바탕"/>
              </a:rPr>
              <a:t>an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바탕"/>
              </a:rPr>
              <a:t>para</a:t>
            </a:r>
            <a:r>
              <a:rPr b="1" lang="en-US" sz="1800" spc="-1" strike="noStrike">
                <a:solidFill>
                  <a:srgbClr val="000000"/>
                </a:solidFill>
                <a:latin typeface="바탕"/>
              </a:rPr>
              <a:t> Puerto Rico.  Viajamo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바탕"/>
              </a:rPr>
              <a:t>por</a:t>
            </a:r>
            <a:r>
              <a:rPr b="1" lang="en-US" sz="1800" spc="-1" strike="noStrike">
                <a:solidFill>
                  <a:srgbClr val="000000"/>
                </a:solidFill>
                <a:latin typeface="바탕"/>
              </a:rPr>
              <a:t> avi</a:t>
            </a:r>
            <a:r>
              <a:rPr b="1" lang="en-US" sz="1800" spc="-1" strike="noStrike">
                <a:solidFill>
                  <a:srgbClr val="000000"/>
                </a:solidFill>
                <a:latin typeface="바탕"/>
                <a:ea typeface="바탕"/>
              </a:rPr>
              <a:t>ó</a:t>
            </a:r>
            <a:r>
              <a:rPr b="1" lang="en-US" sz="1800" spc="-1" strike="noStrike">
                <a:solidFill>
                  <a:srgbClr val="000000"/>
                </a:solidFill>
                <a:latin typeface="바탕"/>
              </a:rPr>
              <a:t>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바탕"/>
              </a:rPr>
              <a:t>Mi esposo y yo vamos a caminar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바탕"/>
              </a:rPr>
              <a:t>por</a:t>
            </a:r>
            <a:r>
              <a:rPr b="1" lang="en-US" sz="1800" spc="-1" strike="noStrike">
                <a:solidFill>
                  <a:srgbClr val="000000"/>
                </a:solidFill>
                <a:latin typeface="바탕"/>
              </a:rPr>
              <a:t> la play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바탕"/>
                <a:ea typeface="바탕"/>
              </a:rPr>
              <a:t>¿</a:t>
            </a:r>
            <a:r>
              <a:rPr b="1" lang="en-US" sz="6000" spc="-1" strike="noStrike">
                <a:solidFill>
                  <a:srgbClr val="333399"/>
                </a:solidFill>
                <a:latin typeface="바탕"/>
              </a:rPr>
              <a:t>Por o Para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27440" y="1523880"/>
            <a:ext cx="8049600" cy="56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bbe0e3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바탕"/>
              </a:rPr>
              <a:t>Le pagamos cuarenta dólares ____________ los zapa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bbe0e3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bbe0e3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바탕"/>
              </a:rPr>
              <a:t>Traigo este libro ____________ Anamar</a:t>
            </a:r>
            <a:r>
              <a:rPr b="1" lang="en-US" sz="2000" spc="-1" strike="noStrike">
                <a:solidFill>
                  <a:srgbClr val="bbe0e3"/>
                </a:solidFill>
                <a:latin typeface="바탕"/>
                <a:ea typeface="바탕"/>
              </a:rPr>
              <a:t>í</a:t>
            </a:r>
            <a:r>
              <a:rPr b="1" lang="en-US" sz="2000" spc="-1" strike="noStrike">
                <a:solidFill>
                  <a:srgbClr val="bbe0e3"/>
                </a:solidFill>
                <a:latin typeface="바탕"/>
              </a:rPr>
              <a:t>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bbe0e3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bbe0e3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바탕"/>
              </a:rPr>
              <a:t>Tenemos que estudiar ____________ la prueb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bbe0e3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bbe0e3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바탕"/>
              </a:rPr>
              <a:t>Escribes un ensayo ____________ mar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bbe0e3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bbe0e3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바탕"/>
              </a:rPr>
              <a:t>Lo hago ____________ Juanita porque ella no lo puede hac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bbe0e3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bbe0e3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바탕"/>
              </a:rPr>
              <a:t>Salimos a las dos ___________ Cancú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bbe0e3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bbe0e3"/>
              </a:buClr>
              <a:buFont typeface="Batang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바탕"/>
              </a:rPr>
              <a:t>Martín es inteligente ____________ un niño de 10 añ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bbe0e3"/>
              </a:buClr>
              <a:buFont typeface="Batang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bbe0e3"/>
              </a:buClr>
              <a:buFont typeface="Batang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바탕"/>
              </a:rPr>
              <a:t>Miro esta película ____________ 3 ho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bbe0e3"/>
              </a:buClr>
              <a:buFont typeface="Batang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바탕"/>
              </a:rPr>
              <a:t>9.  Viajas a St.Louis  ____________ avión o __________ autobú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4575960" y="146844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바탕"/>
              </a:rPr>
              <a:t>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3317760" y="2057400"/>
            <a:ext cx="8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바탕"/>
              </a:rPr>
              <a:t>p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3875040" y="2646360"/>
            <a:ext cx="8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바탕"/>
              </a:rPr>
              <a:t>p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3622320" y="3276720"/>
            <a:ext cx="8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바탕"/>
              </a:rPr>
              <a:t>p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2189880" y="390672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바탕"/>
              </a:rPr>
              <a:t>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3112920" y="4495680"/>
            <a:ext cx="8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바탕"/>
              </a:rPr>
              <a:t>p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3698640" y="5084640"/>
            <a:ext cx="8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바탕"/>
              </a:rPr>
              <a:t>p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3409200" y="571500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바탕"/>
              </a:rPr>
              <a:t>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3104280" y="634536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바탕"/>
              </a:rPr>
              <a:t>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5795280" y="632448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바탕"/>
              </a:rPr>
              <a:t>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2T19:57:34Z</dcterms:created>
  <dc:creator>Schaumburg High School</dc:creator>
  <dc:description/>
  <dc:language>en-US</dc:language>
  <cp:lastModifiedBy>jkaplan</cp:lastModifiedBy>
  <dcterms:modified xsi:type="dcterms:W3CDTF">2011-04-06T12:25:29Z</dcterms:modified>
  <cp:revision>13</cp:revision>
  <dc:subject/>
  <dc:title>Por/Para</dc:title>
</cp:coreProperties>
</file>